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1.jpeg" ContentType="image/jpeg"/>
  <Override PartName="/ppt/media/image35.png" ContentType="image/png"/>
  <Override PartName="/ppt/media/image5.jpeg" ContentType="image/jpeg"/>
  <Override PartName="/ppt/media/image4.png" ContentType="image/png"/>
  <Override PartName="/ppt/media/image12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40.png" ContentType="image/png"/>
  <Override PartName="/ppt/media/image48.png" ContentType="image/png"/>
  <Override PartName="/ppt/media/image9.jpeg" ContentType="image/jpeg"/>
  <Override PartName="/ppt/media/image11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44.png" ContentType="image/pn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5907-058F-4F92-86D8-F0E9736B5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49BB-6669-4433-BE5C-15F68E03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7511-45A5-4340-9750-354500BA1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D813-C9DE-4E7B-B5CE-D7134F572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6008-1EB7-4CCF-9486-785DB9FD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04DA-B66A-4257-8781-530A5C88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E889-75F8-46A3-AF18-A3E9C33E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7A4D-85E0-4426-8C77-1CB5E48B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AF6C-41A9-457D-A413-E44B6699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5017-E1E7-425E-A96D-819AAB6B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8586-1B6B-413E-812E-1954119D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BE2A-31B3-437A-8455-AAE6E756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4F87D-2EDA-4550-8F50-3FAA48D73A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2000" y="39528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 Narrow"/>
              </a:rPr>
              <a:t>*Série Dark’n’Luke*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0920" y="1763280"/>
            <a:ext cx="70563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rsion alchimie 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24000" y="2246400"/>
            <a:ext cx="885672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79640" y="0"/>
            <a:ext cx="8353440" cy="740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908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79640" y="276120"/>
            <a:ext cx="8137440" cy="70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6000" y="324000"/>
            <a:ext cx="9864720" cy="67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9120" y="973080"/>
            <a:ext cx="9579240" cy="57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0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00160" y="900000"/>
            <a:ext cx="9821880" cy="58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9360" y="1079640"/>
            <a:ext cx="1009620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344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1120" y="138240"/>
            <a:ext cx="8859600" cy="7416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47640" y="34920"/>
            <a:ext cx="8859960" cy="74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912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6000" y="74520"/>
            <a:ext cx="9504360" cy="74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404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miqueau blaise</cp:lastModifiedBy>
  <dcterms:modified xsi:type="dcterms:W3CDTF">2006-10-22T17:11:57Z</dcterms:modified>
  <cp:revision>4</cp:revision>
  <dc:subject/>
  <dc:title>Diapositive 1</dc:title>
</cp:coreProperties>
</file>